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4.gif" ContentType="image/gif"/>
  <Override PartName="/ppt/media/image34.gif" ContentType="image/gif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3.gif" ContentType="image/gif"/>
  <Override PartName="/ppt/media/image9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6.gif" ContentType="image/gi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B2C-E0A6-45FB-834E-3BF66D53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266-4063-4933-A451-CF2A0C0C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39B-B14B-4AE9-8EB5-BA471E86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161-62BE-4EA8-8692-E5B5FB36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D55F-BF63-43DA-8C4C-8256F826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A578-AA5B-49AA-AAE4-60C2718F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2665-368B-4364-80C9-F35A51D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FA17-7833-430A-BA91-90D565BE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7C4F-B7A7-4884-B2C6-00780B9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F548-9238-4170-9B3A-42CFF4E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0150-AAEE-47AF-A008-444AA9E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AC4-113E-461A-8D94-E78622D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4D13-8DDE-4D01-9329-82BDC25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3782-6EFD-442A-BCEB-05718AB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B872-4AF0-4ACD-85ED-E0B87A8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E800-CE3C-4C2F-96F6-D352094F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D356-0CAC-412F-B0B9-682F6098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0D5-5BDD-419F-885C-01EA1C5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F0E-9A96-4AA8-A2B7-1E4A0A1E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86C-6C82-4AEE-B05A-83CCB99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C87-4A01-4F30-A179-C995B693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85F-0251-40AB-BE9B-C97630F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879-2A34-42C4-8B16-3C4D350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C54-D9F9-4678-92C2-1354FE84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737-DF88-48F2-9E7F-D714AF2BAA1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88DA-FA71-4444-B7E0-53764C57C36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qjsyy.com.cn/jsyx/wy/3.htm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etroom.hbu.edu.cn/personal/anna/pfiles/picture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6483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HeYong fe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638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680" y="1371600"/>
            <a:ext cx="693432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01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 </a:t>
            </a: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Hello everyone</a:t>
            </a:r>
            <a:endParaRPr b="1" lang="en-US" sz="4400" spc="1" strike="noStrike">
              <a:ln w="9360">
                <a:solidFill>
                  <a:srgbClr val="ff2108"/>
                </a:solidFill>
                <a:miter/>
              </a:ln>
              <a:solidFill>
                <a:srgbClr val="ff2108"/>
              </a:solidFill>
              <a:latin typeface="宋体"/>
              <a:ea typeface="宋体"/>
            </a:endParaRPr>
          </a:p>
        </p:txBody>
      </p:sp>
      <p:pic>
        <p:nvPicPr>
          <p:cNvPr id="92" name="231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590920" cy="281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exercise181101%5B1%5D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685800"/>
            <a:ext cx="77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48320" y="5867280"/>
            <a:ext cx="4495680" cy="761760"/>
            <a:chOff x="4648320" y="5867280"/>
            <a:chExt cx="4495680" cy="761760"/>
          </a:xfrm>
        </p:grpSpPr>
        <p:sp>
          <p:nvSpPr>
            <p:cNvPr id="142" name=""/>
            <p:cNvSpPr/>
            <p:nvPr/>
          </p:nvSpPr>
          <p:spPr>
            <a:xfrm>
              <a:off x="4648320" y="5867280"/>
              <a:ext cx="44956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5867280"/>
              <a:ext cx="340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2108"/>
                  </a:solidFill>
                  <a:latin typeface="Times New Roman"/>
                </a:rPr>
                <a:t>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runn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4" name="lyj09384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0" y="5867280"/>
            <a:ext cx="4572000" cy="762120"/>
            <a:chOff x="0" y="5867280"/>
            <a:chExt cx="4572000" cy="762120"/>
          </a:xfrm>
        </p:grpSpPr>
        <p:sp>
          <p:nvSpPr>
            <p:cNvPr id="146" name=""/>
            <p:cNvSpPr/>
            <p:nvPr/>
          </p:nvSpPr>
          <p:spPr>
            <a:xfrm>
              <a:off x="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586728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laying football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30_16_6138%5B1%5D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5867280"/>
            <a:ext cx="4495680" cy="762120"/>
            <a:chOff x="0" y="5867280"/>
            <a:chExt cx="4495680" cy="762120"/>
          </a:xfrm>
        </p:grpSpPr>
        <p:sp>
          <p:nvSpPr>
            <p:cNvPr id="150" name=""/>
            <p:cNvSpPr/>
            <p:nvPr/>
          </p:nvSpPr>
          <p:spPr>
            <a:xfrm>
              <a:off x="0" y="5867280"/>
              <a:ext cx="4495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867280"/>
              <a:ext cx="449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72efe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ff2108"/>
                  </a:solidFill>
                  <a:latin typeface="Times New Roman"/>
                </a:rPr>
                <a:t> guitar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2" name="225" descr=""/>
          <p:cNvPicPr/>
          <p:nvPr/>
        </p:nvPicPr>
        <p:blipFill>
          <a:blip r:embed="rId2"/>
          <a:stretch/>
        </p:blipFill>
        <p:spPr>
          <a:xfrm>
            <a:off x="2286000" y="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19%5B1%5D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572000" y="5867280"/>
            <a:ext cx="4876920" cy="762120"/>
            <a:chOff x="4572000" y="5867280"/>
            <a:chExt cx="4876920" cy="762120"/>
          </a:xfrm>
        </p:grpSpPr>
        <p:sp>
          <p:nvSpPr>
            <p:cNvPr id="155" name=""/>
            <p:cNvSpPr/>
            <p:nvPr/>
          </p:nvSpPr>
          <p:spPr>
            <a:xfrm>
              <a:off x="457200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867280"/>
              <a:ext cx="480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21e903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drums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mall20031023153624835064%5B1%5D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0" y="5791320"/>
            <a:ext cx="4723920" cy="774720"/>
            <a:chOff x="0" y="5791320"/>
            <a:chExt cx="4723920" cy="774720"/>
          </a:xfrm>
        </p:grpSpPr>
        <p:sp>
          <p:nvSpPr>
            <p:cNvPr id="159" name=""/>
            <p:cNvSpPr/>
            <p:nvPr/>
          </p:nvSpPr>
          <p:spPr>
            <a:xfrm>
              <a:off x="0" y="5791320"/>
              <a:ext cx="4577040" cy="77472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040" y="5791320"/>
              <a:ext cx="466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          </a:t>
              </a:r>
              <a:r>
                <a:rPr b="1" lang="zh-CN" sz="4000" spc="-1" strike="noStrike">
                  <a:solidFill>
                    <a:srgbClr val="ff240d"/>
                  </a:solidFill>
                  <a:latin typeface="Times New Roman"/>
                </a:rPr>
                <a:t>danc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1" name="_1057629836_2r%5B1%5D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648320" y="5791320"/>
            <a:ext cx="4800240" cy="761400"/>
            <a:chOff x="4648320" y="5791320"/>
            <a:chExt cx="4800240" cy="761400"/>
          </a:xfrm>
        </p:grpSpPr>
        <p:sp>
          <p:nvSpPr>
            <p:cNvPr id="163" name=""/>
            <p:cNvSpPr/>
            <p:nvPr/>
          </p:nvSpPr>
          <p:spPr>
            <a:xfrm>
              <a:off x="4648320" y="5791320"/>
              <a:ext cx="4591800" cy="76140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2720" y="5791320"/>
              <a:ext cx="4695840" cy="703440"/>
            </a:xfrm>
            <a:prstGeom prst="rect">
              <a:avLst/>
            </a:prstGeom>
            <a:solidFill>
              <a:srgbClr val="fff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240d"/>
                  </a:solidFill>
                  <a:latin typeface="Times New Roman"/>
                </a:rPr>
                <a:t>           </a:t>
              </a:r>
              <a:r>
                <a:rPr b="1" lang="en-US" sz="4000" spc="-1" strike="noStrike">
                  <a:solidFill>
                    <a:srgbClr val="ff240d"/>
                  </a:solidFill>
                  <a:latin typeface="Times New Roman"/>
                </a:rPr>
                <a:t>sing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lj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-228600" y="6019920"/>
            <a:ext cx="4876920" cy="609480"/>
            <a:chOff x="-228600" y="6019920"/>
            <a:chExt cx="4876920" cy="609480"/>
          </a:xfrm>
        </p:grpSpPr>
        <p:sp>
          <p:nvSpPr>
            <p:cNvPr id="167" name=""/>
            <p:cNvSpPr/>
            <p:nvPr/>
          </p:nvSpPr>
          <p:spPr>
            <a:xfrm>
              <a:off x="0" y="6019920"/>
              <a:ext cx="4572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228600" y="6019920"/>
              <a:ext cx="487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study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n the computer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aihuyanjinq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24280" y="5181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6019920"/>
            <a:ext cx="4419720" cy="609480"/>
            <a:chOff x="4724280" y="6019920"/>
            <a:chExt cx="4419720" cy="609480"/>
          </a:xfrm>
        </p:grpSpPr>
        <p:sp>
          <p:nvSpPr>
            <p:cNvPr id="172" name=""/>
            <p:cNvSpPr/>
            <p:nvPr/>
          </p:nvSpPr>
          <p:spPr>
            <a:xfrm>
              <a:off x="4724280" y="6019920"/>
              <a:ext cx="4419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60199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72efe"/>
                  </a:solidFill>
                  <a:latin typeface="Times New Roman"/>
                </a:rPr>
                <a:t>watch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TV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asthma03050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2286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mming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ef7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 flipV="1">
            <a:off x="762120" y="990720"/>
            <a:ext cx="4038480" cy="838080"/>
          </a:xfrm>
          <a:prstGeom prst="wedgeEllipseCallout">
            <a:avLst>
              <a:gd name="adj1" fmla="val -38958"/>
              <a:gd name="adj2" fmla="val -926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240d"/>
                </a:solidFill>
                <a:latin typeface="Times New Roman"/>
              </a:rPr>
              <a:t>挑战无极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4572000"/>
            <a:ext cx="3505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Of cours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8" name="026agif007" descr=""/>
          <p:cNvPicPr/>
          <p:nvPr/>
        </p:nvPicPr>
        <p:blipFill>
          <a:blip r:embed="rId1"/>
          <a:stretch/>
        </p:blipFill>
        <p:spPr>
          <a:xfrm flipH="1" rot="10800000">
            <a:off x="6553080" y="472428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28800" y="2362320"/>
            <a:ext cx="4952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1680">
                  <a:solidFill>
                    <a:srgbClr val="3366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Can you learn it?</a:t>
            </a:r>
            <a:endParaRPr b="1" lang="en-US" sz="4400" spc="1" strike="noStrike">
              <a:ln w="31680">
                <a:solidFill>
                  <a:srgbClr val="3366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180" name="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920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6agif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15000" y="12193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king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6160" y="45396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18280" y="624852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bb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94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5943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ump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052744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86400" y="57913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eaning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562720"/>
            <a:ext cx="9144000" cy="1066680"/>
          </a:xfrm>
          <a:prstGeom prst="rect">
            <a:avLst/>
          </a:prstGeom>
          <a:solidFill>
            <a:srgbClr val="bdb6a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638680"/>
            <a:ext cx="5790960" cy="825120"/>
          </a:xfrm>
          <a:prstGeom prst="rect">
            <a:avLst/>
          </a:prstGeom>
          <a:solidFill>
            <a:srgbClr val="bdb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e is</a:t>
            </a:r>
            <a:r>
              <a:rPr b="1" lang="en-US" sz="4800" spc="-1" strike="noStrike">
                <a:solidFill>
                  <a:srgbClr val="21e903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wimm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gif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304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e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60" y="38088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ck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2rabbit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09680" y="2286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14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4864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ighting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30492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bbits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14600" y="1143000"/>
            <a:ext cx="41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Xb0520D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Unit 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It’s rain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gif1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30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He is </a:t>
            </a: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waiting for</a:t>
            </a: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the e-mail 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What is the lovel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dog doing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gif006" descr=""/>
          <p:cNvPicPr/>
          <p:nvPr/>
        </p:nvPicPr>
        <p:blipFill>
          <a:blip r:embed="rId1"/>
          <a:stretch/>
        </p:blipFill>
        <p:spPr>
          <a:xfrm>
            <a:off x="0" y="228600"/>
            <a:ext cx="662940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gif003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5181480" cy="1904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2971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watch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wimm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eat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3254_2003-11-21_19-8-39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1981080" cy="1295280"/>
          </a:xfrm>
          <a:prstGeom prst="flowChartMagneticTap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108"/>
                </a:solidFill>
                <a:latin typeface="Times New Roman"/>
                <a:ea typeface="华文行楷"/>
              </a:rPr>
              <a:t>绝对任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3240" y="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If you are here,please tal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about the weather and thin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what you are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304920"/>
            <a:ext cx="7391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3" name="w10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1640" y="73080"/>
            <a:ext cx="43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e684"/>
                </a:solidFill>
                <a:latin typeface="Times New Roman"/>
              </a:rPr>
              <a:t>Listen and answer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15000" y="5940360"/>
            <a:ext cx="3352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namap2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5040" y="0"/>
            <a:ext cx="42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Weather Forecast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KGD2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15000" y="5562720"/>
            <a:ext cx="2895480" cy="685800"/>
            <a:chOff x="5715000" y="5562720"/>
            <a:chExt cx="2895480" cy="685800"/>
          </a:xfrm>
        </p:grpSpPr>
        <p:sp>
          <p:nvSpPr>
            <p:cNvPr id="103" name=""/>
            <p:cNvSpPr/>
            <p:nvPr/>
          </p:nvSpPr>
          <p:spPr>
            <a:xfrm>
              <a:off x="5715000" y="5639040"/>
              <a:ext cx="2895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5000" y="55627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21e903"/>
                  </a:solidFill>
                  <a:latin typeface="Times New Roman"/>
                </a:rPr>
                <a:t>snow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" y="457200"/>
            <a:ext cx="4191120" cy="642600"/>
            <a:chOff x="457200" y="457200"/>
            <a:chExt cx="4191120" cy="642600"/>
          </a:xfrm>
        </p:grpSpPr>
        <p:sp>
          <p:nvSpPr>
            <p:cNvPr id="106" name=""/>
            <p:cNvSpPr/>
            <p:nvPr/>
          </p:nvSpPr>
          <p:spPr>
            <a:xfrm>
              <a:off x="457200" y="457200"/>
              <a:ext cx="4191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4572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How’s the weather 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078942149_aAaOOs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380880" y="380880"/>
            <a:ext cx="5867640" cy="838440"/>
            <a:chOff x="380880" y="380880"/>
            <a:chExt cx="5867640" cy="838440"/>
          </a:xfrm>
        </p:grpSpPr>
        <p:sp>
          <p:nvSpPr>
            <p:cNvPr id="110" name=""/>
            <p:cNvSpPr/>
            <p:nvPr/>
          </p:nvSpPr>
          <p:spPr>
            <a:xfrm>
              <a:off x="380880" y="380880"/>
              <a:ext cx="5732640" cy="838440"/>
            </a:xfrm>
            <a:prstGeom prst="rect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57200"/>
              <a:ext cx="58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How’s  the weather 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5562720"/>
            <a:ext cx="2514600" cy="685800"/>
            <a:chOff x="6095880" y="5562720"/>
            <a:chExt cx="2514600" cy="685800"/>
          </a:xfrm>
        </p:grpSpPr>
        <p:sp>
          <p:nvSpPr>
            <p:cNvPr id="113" name=""/>
            <p:cNvSpPr/>
            <p:nvPr/>
          </p:nvSpPr>
          <p:spPr>
            <a:xfrm>
              <a:off x="6095880" y="5562720"/>
              <a:ext cx="2514600" cy="685800"/>
            </a:xfrm>
            <a:prstGeom prst="rect">
              <a:avLst/>
            </a:prstGeom>
            <a:solidFill>
              <a:srgbClr val="ae590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562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It’s wind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40426100850_111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457200" y="457200"/>
            <a:ext cx="4114800" cy="761760"/>
            <a:chOff x="457200" y="457200"/>
            <a:chExt cx="4114800" cy="761760"/>
          </a:xfrm>
        </p:grpSpPr>
        <p:sp>
          <p:nvSpPr>
            <p:cNvPr id="117" name=""/>
            <p:cNvSpPr/>
            <p:nvPr/>
          </p:nvSpPr>
          <p:spPr>
            <a:xfrm>
              <a:off x="457200" y="457200"/>
              <a:ext cx="41148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3316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How’s the weather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67280" y="5638680"/>
            <a:ext cx="2819160" cy="685800"/>
            <a:chOff x="5867280" y="5638680"/>
            <a:chExt cx="2819160" cy="685800"/>
          </a:xfrm>
        </p:grpSpPr>
        <p:sp>
          <p:nvSpPr>
            <p:cNvPr id="120" name=""/>
            <p:cNvSpPr/>
            <p:nvPr/>
          </p:nvSpPr>
          <p:spPr>
            <a:xfrm>
              <a:off x="5867280" y="56386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7280" y="56386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rain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lower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95880" y="5638680"/>
            <a:ext cx="2590560" cy="685800"/>
            <a:chOff x="6095880" y="5638680"/>
            <a:chExt cx="2590560" cy="685800"/>
          </a:xfrm>
        </p:grpSpPr>
        <p:sp>
          <p:nvSpPr>
            <p:cNvPr id="124" name=""/>
            <p:cNvSpPr/>
            <p:nvPr/>
          </p:nvSpPr>
          <p:spPr>
            <a:xfrm>
              <a:off x="6095880" y="5638680"/>
              <a:ext cx="2438280" cy="685800"/>
            </a:xfrm>
            <a:prstGeom prst="rect">
              <a:avLst/>
            </a:prstGeom>
            <a:gradFill rotWithShape="0">
              <a:gsLst>
                <a:gs pos="0">
                  <a:srgbClr val="fef77e"/>
                </a:gs>
                <a:gs pos="50000">
                  <a:srgbClr val="fff200"/>
                </a:gs>
                <a:gs pos="100000">
                  <a:srgbClr val="fef77e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1840" y="56386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40d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sunn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19920" y="609480"/>
            <a:ext cx="2590560" cy="1752480"/>
            <a:chOff x="6019920" y="609480"/>
            <a:chExt cx="2590560" cy="1752480"/>
          </a:xfrm>
        </p:grpSpPr>
        <p:sp>
          <p:nvSpPr>
            <p:cNvPr id="127" name=""/>
            <p:cNvSpPr/>
            <p:nvPr/>
          </p:nvSpPr>
          <p:spPr>
            <a:xfrm>
              <a:off x="6019920" y="609480"/>
              <a:ext cx="2514600" cy="175248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fef89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609480"/>
              <a:ext cx="2590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hat’s the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eather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like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0419120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193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jiangxi-jinggangshan" descr=""/>
          <p:cNvPicPr/>
          <p:nvPr/>
        </p:nvPicPr>
        <p:blipFill>
          <a:blip r:embed="rId3"/>
          <a:stretch/>
        </p:blipFill>
        <p:spPr>
          <a:xfrm>
            <a:off x="4876920" y="1219320"/>
            <a:ext cx="358128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200403190004138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image01" descr=""/>
          <p:cNvPicPr/>
          <p:nvPr/>
        </p:nvPicPr>
        <p:blipFill>
          <a:blip r:embed="rId5"/>
          <a:stretch/>
        </p:blipFill>
        <p:spPr>
          <a:xfrm>
            <a:off x="5105520" y="3962520"/>
            <a:ext cx="3273480" cy="213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44280"/>
            <a:ext cx="52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the weather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3114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9240" y="311472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5480" y="60865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um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34840" y="6010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n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27hourse022" descr=""/>
          <p:cNvPicPr/>
          <p:nvPr/>
        </p:nvPicPr>
        <p:blipFill>
          <a:blip r:embed="rId6"/>
          <a:stretch/>
        </p:blipFill>
        <p:spPr>
          <a:xfrm>
            <a:off x="7696080" y="61920"/>
            <a:ext cx="1219320" cy="98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07:46:12Z</dcterms:created>
  <dc:creator>kxc</dc:creator>
  <dc:description/>
  <dc:language>en-US</dc:language>
  <cp:lastModifiedBy>kxc</cp:lastModifiedBy>
  <dcterms:modified xsi:type="dcterms:W3CDTF">2004-06-03T02:24:07Z</dcterms:modified>
  <cp:revision>124</cp:revision>
  <dc:subject/>
  <dc:title>Hyf </dc:title>
</cp:coreProperties>
</file>